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A22-A172-4C50-8C57-C2B17A5A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B8E-07B0-4E49-A406-4A68299D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A63-2F3D-4BFD-8913-4B42DEE6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CF5-F1B2-4B4A-9488-259DE1DF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63C-0708-49A7-B273-91A3A650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A37-BF31-48CA-B843-0FA13FD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C17-E85F-4527-97F9-1D3E8C74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3BD-444C-4490-854E-7BF7715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9C4-37AB-4AA4-9045-FC2CA5A1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8E3-ABD8-4546-8637-5BC1CBD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B83-3B16-42A0-987C-E9B483E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DF4-3C56-4F17-803C-E4AB9903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D2EA-F75D-4F47-AE05-F42376A3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9640" y="1655640"/>
            <a:ext cx="777240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iseño e imple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e una pila TCP/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ara orden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35040" y="7747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Arial"/>
              </a:rPr>
              <a:t>InterNestor Sui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72864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nterNestor Sui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4720" y="1608120"/>
            <a:ext cx="777240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e imple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una pila TCP/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 orden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MSX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1295280" cy="48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2320" y="5181480"/>
            <a:ext cx="647676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arrollado por Néstor Soriano Vilc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igido por Juan José Alins Del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T.S.E.T.B., Diciembr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NestorMan: el gestor de memoria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- 2 - 3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85680" indent="-85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stor de memoria dinámica 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480" indent="-856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Funciona como una extensión del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480" indent="-856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uede ser usado por cualquier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67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62640" indent="-626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uncional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9520" indent="-626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) Reserva dinámica de bloques de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9520" indent="-626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) Creación y gestión de listas doblemente enca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09520" indent="-626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) Funcionalidad especial para InterNestor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NestorMan: el gestor de memoria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3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48240" indent="-48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erva de memoria 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1640" indent="-48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Reserva de bloques de hasta 16K sobr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1640" indent="-48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tición automática de segmentos nuevos al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1640" indent="-48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Uso de un sistema de clusterización similar al sistema de archivos F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920" indent="-38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tición de los segmentos en clusters de 8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32920" indent="-38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so de una tabla en cada segmento indicando qué clusters están ocup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Estructura%20memoria%20dinámica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902360" cy="161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NestorMan: el gestor de memoria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2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85680" indent="-856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canismo de listas doblemente encade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480" indent="-856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e reservan bloques de memoria dinámica a los que se añaden punteros a los elementos anterior y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480" indent="-856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s posible insertar/extraer elementos en/de cualquier posición de la l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sta%20encadenada" descr=""/>
          <p:cNvPicPr/>
          <p:nvPr/>
        </p:nvPicPr>
        <p:blipFill>
          <a:blip r:embed="rId1"/>
          <a:stretch/>
        </p:blipFill>
        <p:spPr>
          <a:xfrm>
            <a:off x="1219320" y="4952880"/>
            <a:ext cx="6543720" cy="86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NestorMan: el gestor de memoria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2 - 3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438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79920" indent="-79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uncionalidad especial para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400" indent="-799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Reserva de cuatro segmentos para los módulos de código de InterNestor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400" indent="-799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jecución del código de InterNestor Suite en cada interrupción del rel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ructura de InterNestor Suite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- 2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68400" indent="-68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tro módulos de código independientes pero intercomunicados entre sí medi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1) Conjunto de rutinas accesibles a través de una tabla de sal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2) Constantes y variab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3) Colas (listas de NestorMan) para el intercambio de paquetes de da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37160" indent="-13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ada módulo se normaliza su función y sus puntos de comunicación pero no su comportamiento ex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sibilidad de desarrollar nuevos módulos en el futuro que reemplacen a los existen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ructura de InterNestor Suite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4440" y="1981080"/>
            <a:ext cx="563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) Módul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cceso al medi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esarrollado: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ódulo RS-2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12408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) Módul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vel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esarrollado: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ódulo 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191120"/>
            <a:ext cx="4190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) Módul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vel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esarrollado: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ódulo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257800"/>
            <a:ext cx="487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) Módul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ivel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esarrollado: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módulo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38560"/>
            <a:ext cx="2819520" cy="1922760"/>
          </a:xfrm>
          <a:prstGeom prst="rect">
            <a:avLst/>
          </a:prstGeom>
          <a:noFill/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a exter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instalar e inicializar los mód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2514600"/>
            <a:ext cx="380880" cy="3581280"/>
          </a:xfrm>
          <a:custGeom>
            <a:avLst/>
            <a:gdLst>
              <a:gd name="textAreaLeft" fmla="*/ 0 w 380880"/>
              <a:gd name="textAreaRight" fmla="*/ 137520 w 38088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55"/>
                </a:lnTo>
                <a:cubicBezTo>
                  <a:pt x="10800" y="9555"/>
                  <a:pt x="16200" y="10455"/>
                  <a:pt x="21600" y="10455"/>
                </a:cubicBezTo>
                <a:cubicBezTo>
                  <a:pt x="16200" y="10455"/>
                  <a:pt x="10800" y="11355"/>
                  <a:pt x="10800" y="1225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10200" y="438120"/>
            <a:ext cx="472428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90512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cución en secuencia en cada interrupción del reloj (1 - 2 - 3 -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3352680" cy="125892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ructura de InterNestor Suite</a:t>
            </a:r>
            <a:br>
              <a:rPr sz="2800"/>
            </a:br>
            <a:r>
              <a:rPr b="0" lang="es-ES_tradnl" sz="1800" spc="-1" strike="noStrike">
                <a:solidFill>
                  <a:srgbClr val="dddddd"/>
                </a:solidFill>
                <a:latin typeface="Arial"/>
              </a:rPr>
              <a:t>1 - 2 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27672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48400" indent="-248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cada ejecución, cada módulo procesa un paquete de entrada y uno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0292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acción con las aplicaciones por medio de rutinas y c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structura%20módulos%20-%20fondo%20blanco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86120" cy="607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RS-2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879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basa en un driver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fossil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idente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65600" indent="-165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ge paquetes salientes generados por el módulo de nivel 2, y los envía byte por byte al puert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240" indent="-16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i el puerto deja de estar disponible, deja el paquete pendiente y finaliza la ejecución para evitar bloqu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5600" indent="-165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1655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ge bytes entrantes del RS-232 y los almacena en un bufer interno hasta que son consum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Bufer%20de%20entrada%20RS-232" descr=""/>
          <p:cNvPicPr/>
          <p:nvPr/>
        </p:nvPicPr>
        <p:blipFill>
          <a:blip r:embed="rId1"/>
          <a:stretch/>
        </p:blipFill>
        <p:spPr>
          <a:xfrm>
            <a:off x="762120" y="5181480"/>
            <a:ext cx="7750080" cy="14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 protocolo P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protocolos para el establecimiento de una conexión a nivel de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pertura de la conexión es disparada por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03848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s de una conex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Negociación de los parámetros del enlace (L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Autentificación (PAP o CH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Negociación de los protocolos de red a usar y sus parámetros (IPCP para protocolo 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ases%20PPP" descr="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424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PPP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174240" indent="-174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ncarga de establecer una conexión con el ISP (LCP - autentificación - IP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ge paquetes salientes generados por el módulo de nivel 3 (IP), les añade encapsulado HDLC y los envía al módulo de niv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11320" indent="-21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ge bytes entrantes del módulo de nivel 1, los transforma en paquetes HDLC - IP, y los envía a al módulo de nivel 3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11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Filtra los paquetes incorrectos (FCS inválido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PPP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68400" indent="-68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dos los parámetros de conexión son configu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Método: modificación de constantes de configuración antes de abrir l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Método de cara al usuario final: uso de un fichero de configuración para el programa de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e da ventaja al otro extremo en caso de discord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5696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utinas accesibles al usuario / otros mód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3800" indent="-156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pertura/cierre de un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3800" indent="-156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tención del estado de la conexión/direccione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3800" indent="-156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tención de la dirección base de las constantes de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otocolo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s fiable en cuanto a llegada e integridad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05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porciona direccionamiento y fra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Cabecera%20IP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6172200" cy="31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IP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2 - 3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40040" indent="-140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rueba que los paquetes entrantes son correctos y los encola adecu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40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Uso de una cola de paquetes entrantes para cada protocolo existente (códigos de protocolo 1 a 2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40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l usuario o el módulo de nivel 4 han de crear explícitamente la cola para el protocolo des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40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i llegan paquetes para un protocolo de transporte cuya cola no ha sido creada, se devuelve un mensaje ICMP “Protocol Unreachabl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182880" indent="-18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ade una cabecera IP a los paquetes salientes y los envía al módulo de niv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182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Todos los parámetros de la cabecera (protocolo, TTL, opciones IP, ToS) pueden ser establecidos individualmente para cada datagrama sa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880" indent="-182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IP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3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68400" indent="-68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corpora un resolver (conversor de nombres de servidor a direcciones IP mediante consultas a D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Consulta y obtención de resultados por medio de rutinas no bloque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Acepta direcciones IP directas como nombre de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as direcciones IP de los DNS se preguntan al módulo de nive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porte limitado para mensajes 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54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os mensajes de error se encolan directamente en la cola del protocolo asociado, si ex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54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os mensajes informativos se encolan en la cola del protocolo ICMP (p. Ej.: respuesta de eco para 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080" indent="-154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os mensajes desconocidos son ign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IP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2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eñado para usar el MSX como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Una sola dirección IP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in mecanismos de enrutamiento ni redireccionamiento (los paquetes con dirección de destino inválida se igno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88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68400" indent="-68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utinas accesibles al usuario / otros mód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tención de los identificadores de las colas para paquetes entrantes y sa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eación/destrucción de colas de paquetes entrantes para protocol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ulta al resolver y obtención del resul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4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IP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2 - 3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514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a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280" indent="-45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ensamblaje de datagramas fragmentados        (algoritmo de Cl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280" indent="-45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uesta automática a los mensajes ICMP de eco (desactiv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280" indent="-45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onocimiento las direcciones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127.x.x.x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como loop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280" indent="-45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porte limitado para opciones IP (las opciones son transportadas pero no proces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2280" indent="-457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porte para máscara de subred (no usable act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sx3" descr=""/>
          <p:cNvPicPr/>
          <p:nvPr/>
        </p:nvPicPr>
        <p:blipFill>
          <a:blip r:embed="rId1"/>
          <a:stretch/>
        </p:blipFill>
        <p:spPr>
          <a:xfrm>
            <a:off x="2057400" y="4800600"/>
            <a:ext cx="2057400" cy="160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0" name="Panasonic_FS-A1ST_7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2396880" cy="160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MSX = Machines with Software eXchang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dar de ordenadores domésticos fabricado entre 1983 y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do por un conjunto de especificaciones normalizadas, que debían seguir todos los fabric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sados en el microprocesador Z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otocolo 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rientado a conexión - uso de pu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3241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able: garantiza la llegada de los datos en orden y en buen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Cabecera%20TCP" descr=""/>
          <p:cNvPicPr/>
          <p:nvPr/>
        </p:nvPicPr>
        <p:blipFill>
          <a:blip r:embed="rId1"/>
          <a:stretch/>
        </p:blipFill>
        <p:spPr>
          <a:xfrm>
            <a:off x="1943280" y="3276720"/>
            <a:ext cx="5257800" cy="33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TCP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2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2000"/>
          </a:bodyPr>
          <a:p>
            <a:pPr marL="34200" indent="-34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racterísticas TCP implemen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ómata básico según RFC793, con las correcciones de RFC11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exiones activas / pasivas completas / pasivas con el socket remoto sin espec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vío de datos urgentes y 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ritmos Fast Retransmit / Fast Recovery, Slow Start / Congestion Avoidance, Delayed ACK, Nagle, Silly Window Syndrome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álculo dinámico del intervalo de re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robación de ventana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120" indent="-34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rvidor de eco implementado en el puerto 7 (desactiv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TCP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39960" indent="-39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200" indent="-39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cho conexiones abiertas simultáneamente com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200" indent="-39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gnora los mensajes ICMP entrantes, no los genera sa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200" indent="-39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notificaciones asíncronas de datos urgentes entrantes (notificación síncrona al realizar una lectura de da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200" indent="-39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 acumulativo para datos urgentes y PUSH (se almacena un único número de secuencia lími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200" indent="-39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 se puede recuperar el bit PUSH de los datos ent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200" indent="-39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ciones TCP: únicamente la especificación del tamaño máximo de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ódulo TCP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2 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68400" indent="-68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utinas disponibles para el usu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pertura/cierre de un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ectura/escritura de un número cualquiera de bytes de/hacia una conex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6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tención del estado de un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establecer los parámetros de las conexiones cuando son cr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ámetros básicos: puertos, conexión activa o pa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ámetros avanzados: timeouts, ToS, tamaño del bufer de recepción, tiempo máximo en TIME-WAI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plicaciones realizada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2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stalador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Reserva memoria para los módulos (mediante NestorMan), los carga y los iniciali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rmite pausar InterNestor Suite (desconectarlo de la interrupción del reloj sin descargar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962520"/>
            <a:ext cx="7772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cador telefónico para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572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rolador de la conexión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rmite establecer parámetros PPP e IP antes de abrir l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Usado normalmente junto con el marcador telefónico en un fichero B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plicaciones realizadas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rolador de las conexiones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rmite abrir y cerrar conexiones man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rmite configurar el tamaño por defecto del bufer de recepción para las conexiones nue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720960"/>
            <a:ext cx="7772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14120" indent="-114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liente de 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14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rmite enviar cualquier carácter de control telnet, enviar datos en modo carácter o linea, y conversiones de fin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14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ólo reconoce las opciones telnet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Supress Go Ahead, Echo, End Of Record y Binary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14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Ignora los datos urge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plicaciones realizadas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 - 2 -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liente de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Basado en línea de coma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Muy similar a los homólogos de Windows y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505320"/>
            <a:ext cx="7772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48320" indent="-148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5000" indent="-148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ermite obtener cualquier dato de un 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5000" indent="-148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Uso del DNS negociado por el módulo de nivel 2, o especificación directa de la dirección IP del 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5257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40040" indent="-140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liente de 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40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nvío manual de los paquetes de petición de 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ha realizado la pila partiendo únicamente de RF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5408640"/>
            <a:ext cx="7772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storMan proporciona gestión de memoria para cualquier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ha dado preferencia a la estructura modular frente a la optimización de espacio y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171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 conseguido: pila TCP/IP de uso sencillo para MSX-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lanes de fut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 de los módulos existentes en base a errores detectados con el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505320"/>
            <a:ext cx="7772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arrollo de módulos nuevos para hardware distinto (ethernet, cable joystick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00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arrollo de más aplicaciones (cliente de e-mail, IRC, WWW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52640" y="7747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Arial"/>
              </a:rPr>
              <a:t>Fin de la present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25640" y="72864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in de la present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3630600"/>
            <a:ext cx="777240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Nestor Suite está disponible para descarga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ttp://msx.konamiman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Motivación de InterNestor S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rtante base de usuarios activos de MSX 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971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174240" indent="-1742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Única pila TCP/IP existente para MSX: la incorporada en el kernel de UZIX (UNIX para MS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1040" indent="-174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O muy 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1040" indent="-174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co amig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1040" indent="-1742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in un buen entorno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ecesidad de una pila TCP/IP para MSX-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892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imitaciones y decisiones de diseño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800" spc="-1" strike="noStrike">
                <a:solidFill>
                  <a:srgbClr val="dddddd"/>
                </a:solidFill>
                <a:latin typeface="Arial"/>
              </a:rPr>
              <a:t> -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91160" indent="-191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sencia de proyecto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920" indent="-19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esarrollo partiendo de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920" indent="-19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Consulta de RFCs ún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3526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cesador lento y ausencia de buenos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rogramación en ensamb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Uso de Compass (entorno integrado de desarrollo en ensambla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40040" indent="-140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usencia de multitarea en MSX-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6560" indent="-140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Simulación de multitarea mediante el uso de las interrupciones generadas por el reloj del orde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imitaciones y decisiones de diseño</a:t>
            </a:r>
            <a:br>
              <a:rPr sz="3600"/>
            </a:b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- 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133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37160" indent="-13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sión física de la memoria en segmentos de 1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ivisión del código de la pila en módulos independientes, cada uno residente en un segmento (arquitectura O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94320" indent="-9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stión de memoria en MSX-DOS: reserva de segmentos compl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Necesidad de un sistema global de gestión de memoria dinámica y colas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14280" indent="-9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esarrollo de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NestorMan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, gestor de memoria independiente de InterNestor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43c2"/>
            </a:gs>
            <a:gs pos="50000">
              <a:srgbClr val="2b7ef9"/>
            </a:gs>
            <a:gs pos="100000">
              <a:srgbClr val="0a43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0000be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8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) ¿Qué es el MSX?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8920" y="229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2) Motivación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8920" y="267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3) Limitaciones y decisione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098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) NestorMan: el gestor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88920" y="3505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5) Estructura de InterNesto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8920" y="3924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6) El módulo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8892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7) El módulo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8920" y="4749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8) El módulo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8892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9) El módulo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88920" y="558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0) Nivel de aplicación: aplicaciones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8920" y="5956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Arial"/>
              </a:rPr>
              <a:t>11) Conclusión y planes de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20:41:18Z</dcterms:created>
  <dc:creator>Néstor &amp; Kyoko</dc:creator>
  <dc:description/>
  <dc:language>en-US</dc:language>
  <cp:lastModifiedBy>Néstor &amp; Kyoko</cp:lastModifiedBy>
  <dcterms:modified xsi:type="dcterms:W3CDTF">2002-12-10T20:49:30Z</dcterms:modified>
  <cp:revision>194</cp:revision>
  <dc:subject/>
  <dc:title>Sin título de diapositiva</dc:title>
</cp:coreProperties>
</file>